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C8993-DB40-4D64-92FB-1F530AFEE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D3695-1E4E-43B4-8234-B4A29C36C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DF953-7F49-4271-B922-B7B35F0F3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9B91B-21AC-4E5E-AA78-DFBE5A331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4C745-D4AF-41EB-8B59-0F3A7B28E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80A04-B0E3-4758-8D5E-74DC9FDB2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6DD94-E686-4493-82F7-2338E37AA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F6C7-260F-4B3B-9758-FB61347DB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1126F-C3E1-488D-B33A-D15B1A1BE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906C5-0C52-46E9-B617-51B50AB20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824A2-3456-439B-9604-77CBB9B43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DFD8E-4CA4-4DAF-904B-8B25411D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32957-658C-40D5-9CA0-530D3C62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324C-D927-4683-BA89-3580E609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2A738-BAA6-43D7-92BC-DF5CE0F10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647B8-8CA9-4E90-99E4-61037ECCE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1353A-D701-4D50-9BEE-B2D9E852A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BD39-6D3A-4046-B0E8-645EA2FA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69BC-0138-494E-B0BF-269F498C3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4B2B1-6515-488C-8151-D313FD0F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2908-12D6-44D7-ADFF-2C378042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974-AE9E-4475-ACFF-665A1CF9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9F67-A972-49FD-AC0B-F4C6C06D7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43B5-57A2-4F80-BB1E-AF618581E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48F2-5FD7-4746-B7DE-DE597E6B73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DDDC-D88D-4353-9F49-1E1DAF2B69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geos/ve.html" TargetMode="External"/><Relationship Id="rId2" Type="http://schemas.openxmlformats.org/officeDocument/2006/relationships/hyperlink" Target="http://www.answers.com/topic/hugo-ch-vez" TargetMode="External"/><Relationship Id="rId3" Type="http://schemas.openxmlformats.org/officeDocument/2006/relationships/hyperlink" Target="http://archive.newsmax.com/archives/articles/2001/7/3/141428.s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eec94"/>
                </a:solidFill>
                <a:uFillTx/>
                <a:latin typeface="Times New Roman"/>
              </a:rPr>
              <a:t>Venezuelan Leftist Governm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usten Horn, Ben Tobias, and Rob Haworth</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0" y="0"/>
            <a:ext cx="3048120" cy="2031840"/>
          </a:xfrm>
          <a:prstGeom prst="rect">
            <a:avLst/>
          </a:prstGeom>
          <a:ln w="0">
            <a:noFill/>
          </a:ln>
        </p:spPr>
      </p:pic>
      <p:pic>
        <p:nvPicPr>
          <p:cNvPr id="123" name="" descr=""/>
          <p:cNvPicPr/>
          <p:nvPr/>
        </p:nvPicPr>
        <p:blipFill>
          <a:blip r:embed="rId2"/>
          <a:stretch/>
        </p:blipFill>
        <p:spPr>
          <a:xfrm>
            <a:off x="5943600" y="4454640"/>
            <a:ext cx="3200400" cy="2403360"/>
          </a:xfrm>
          <a:prstGeom prst="rect">
            <a:avLst/>
          </a:prstGeom>
          <a:ln w="0">
            <a:noFill/>
          </a:ln>
        </p:spPr>
      </p:pic>
      <p:pic>
        <p:nvPicPr>
          <p:cNvPr id="124" name="" descr="Hugo Chavez the Leftist Venezuelan Dictator "/>
          <p:cNvPicPr/>
          <p:nvPr/>
        </p:nvPicPr>
        <p:blipFill>
          <a:blip r:embed="rId3"/>
          <a:stretch/>
        </p:blipFill>
        <p:spPr>
          <a:xfrm>
            <a:off x="0" y="3733920"/>
            <a:ext cx="2362320" cy="31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Government</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Federal Republi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ident: Hugo Chavez, Vice President: Ramon Carrizalez, Cabinet: Council of Ministers appointed by the presid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9 political parties and Hugo Chavez is a part of the United Socialist Party of Venezuela or PSU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Venezuelan Econom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controls all of Venezuela’s oil which accounts for more than 90% of their export earn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go Chavez also controls all cement and steel companies along with petroleum, communications, and electricity s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employment rate is 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ugo Chavez</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July 28, 1954 in Sabaneta, Venezuel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ed president in 1998.</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2 Hugo Chavez tried to overthrow the president Carlos Perez and was put in prison for two years and was pardoned by president Rafael Caldera and when out of prison he gained popularity and was elected president as a leftist refor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blems in Venezuela</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Hugo Chavez has taken office crime rate has jumped an astounding 8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ween 60 and 100 people are killed on an average Caracas weeken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the unemployment rate has risen to 13% since Hugo Chavez has taken offi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mployment in Venezuela might also mean more Venezuelan immigrants in the U.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ution to Venezuelan Problem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must the watch threat of the increasing  Venezuelan militar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to some how limit the growing power that Hugo Chavez has over Venezuel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lso have to help with the poverty in Venezuel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solidFill>
            <a:srgbClr val="c2803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tations</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s://www.cia.gov/library/publications/the-world-factbook/geos/ve.htm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http://www.answers.com/topic/hugo-ch-vez</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rPr>
              <a:t>http://archive.newsmax.com/archives/articles/2001/7/3/141428.shtm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5:32:30Z</dcterms:created>
  <dc:creator>ws12087</dc:creator>
  <dc:description/>
  <dc:language>en-US</dc:language>
  <cp:lastModifiedBy>Brian Horn</cp:lastModifiedBy>
  <dcterms:modified xsi:type="dcterms:W3CDTF">2009-05-15T00:21:59Z</dcterms:modified>
  <cp:revision>6</cp:revision>
  <dc:subject/>
  <dc:title>Venezuelan Leftist Government </dc:title>
</cp:coreProperties>
</file>